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43E-48B0-4273-854C-00F640DB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446-771D-4387-9A8F-A19A03E3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FE7-6748-48A4-AFD3-9F613ADA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5FA-78C1-4A94-ADC5-F9DBC36C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F2AA-2F2F-4710-8836-E49F8209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83FC-4767-4C3B-8C65-8BA1F238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D7D5-5C30-45CA-B42B-26C89E9B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73A9-76E3-48BE-B515-036FAA06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FE61-9EA6-4A0C-97F8-BDEB1FD4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1AC3-F287-411E-9A49-2599D1B9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7200-A5B5-4884-BCB4-89E97777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E46-098A-4F50-870D-D7577681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3D64-95F8-4786-B82C-9B9E092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A2D1-6965-4888-80D6-01902FDD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0300-A603-4675-A680-059ED026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EF44-1233-44C5-A72F-976219D2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D0F4-C183-4164-9223-00B4F411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8DFE-9E32-40B7-A49A-8670193D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619A-9552-444F-A283-CBC13F57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2BDC-EA87-4DDF-9A5F-589025CE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9FD1-4F58-4505-AD66-EA6555DA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230C-A975-4C8D-8757-0AA62B74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941-F36F-4CF3-8B22-0578A04D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1633-312E-45C3-B8CC-38ABA6D1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6BC5-820D-4C75-9AEB-9E2C85FC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9B2B0-331D-4ECD-9303-66118765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7CB1-CB39-4E57-9052-7AF0FAC6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5CED0-EEBC-44CB-925C-0665446C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4C58-3F79-4CC8-A976-1BF81052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A1AC-FAEC-4854-8207-9575DB62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CC1CB-0E10-4B7D-AF35-D3CC7D79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56BFD-400A-4BF6-8E77-9A71CCD8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2BC3-4138-4D90-B05C-A46B4604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305-D144-440D-B3A7-185764A5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4E183-D4E6-412F-B74C-AA7B6332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C8B0-6874-4199-81AF-AC46E432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8EDA-AE4B-41DD-BD18-534BE9C8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EDA3-4D47-4D9A-B5F8-31DA08E2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2A11-B3AA-4C75-BFF9-21832E96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5321-732E-49D5-8BF3-C87403E1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A979-44A5-4EDD-A5FD-42B665BB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08D35-3529-41C6-BBC7-3A0BFD1C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1D18E-3CD2-4F5A-B22B-06A4F327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6F6-BFD7-4D2A-9D48-B0651305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E9F-D254-4D3A-8ABA-F0EB66D5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D7F-3C6A-41AA-A328-22574D3F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9A5-3421-4809-B778-27A07BD7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85C-73C3-49F2-963D-57F3424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5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B0CA-929A-45E3-82EE-0FD6B70FCD35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0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71" name="Rectangl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74" name="Rectangle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6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77" name="Freeform 9" descr=""/>
            <p:cNvPicPr/>
            <p:nvPr/>
          </p:nvPicPr>
          <p:blipFill>
            <a:blip r:embed="rId11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2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2" descr="C:\Users\Administrator\Desktop\Pushpin Dev\Assets\pushpinLeft.png"/>
          <p:cNvPicPr/>
          <p:nvPr/>
        </p:nvPicPr>
        <p:blipFill>
          <a:blip r:embed="rId13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08DA-67D4-4377-B192-B9A27190B130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5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31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132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40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43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45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46" name="Freeform 1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C7CB-24EC-4F3D-AF44-3805A9404C28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9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20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0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11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3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14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16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217" name="Freeform 3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059C-D3C8-49A6-8C4A-C736FC05E6D5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3590640" cy="404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belka"/>
          <p:cNvPicPr/>
          <p:nvPr/>
        </p:nvPicPr>
        <p:blipFill>
          <a:blip r:embed="rId1"/>
          <a:stretch/>
        </p:blipFill>
        <p:spPr>
          <a:xfrm>
            <a:off x="2571840" y="1797120"/>
            <a:ext cx="385740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медвед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6" descr="476"/>
          <p:cNvPicPr/>
          <p:nvPr/>
        </p:nvPicPr>
        <p:blipFill>
          <a:blip r:embed="rId1"/>
          <a:stretch/>
        </p:blipFill>
        <p:spPr>
          <a:xfrm>
            <a:off x="2670120" y="1895400"/>
            <a:ext cx="36165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волк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3" descr="волк"/>
          <p:cNvPicPr/>
          <p:nvPr/>
        </p:nvPicPr>
        <p:blipFill>
          <a:blip r:embed="rId1"/>
          <a:stretch/>
        </p:blipFill>
        <p:spPr>
          <a:xfrm>
            <a:off x="2643120" y="1882800"/>
            <a:ext cx="3571920" cy="440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402920" y="1665000"/>
            <a:ext cx="3024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811760" y="1708200"/>
            <a:ext cx="36957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403280" y="260280"/>
            <a:ext cx="75596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   -   ДЕТЁНЫ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103640" y="4040280"/>
            <a:ext cx="32400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нового вы узнали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вы считаете нужным запомн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д чем ещё надо поработать?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 что ты себя можешь похвал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на ваш взгляд не удалось? Почему? Что учесть на будущее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5120" y="1065240"/>
            <a:ext cx="6964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20880" y="3228480"/>
            <a:ext cx="422568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ш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е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лин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920880" y="765000"/>
            <a:ext cx="7488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ой лес, заросл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6" descr="Картинка 10 из 25979"/>
          <p:cNvPicPr/>
          <p:nvPr/>
        </p:nvPicPr>
        <p:blipFill>
          <a:blip r:embed="rId1"/>
          <a:stretch/>
        </p:blipFill>
        <p:spPr>
          <a:xfrm>
            <a:off x="3859200" y="2219400"/>
            <a:ext cx="4503600" cy="3578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936720" y="2565360"/>
            <a:ext cx="4225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600200" y="2336400"/>
            <a:ext cx="76089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5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928800" y="765000"/>
            <a:ext cx="760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орму имее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 Земля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8" descr="Картинка 57 из 156390"/>
          <p:cNvPicPr/>
          <p:nvPr/>
        </p:nvPicPr>
        <p:blipFill>
          <a:blip r:embed="rId1"/>
          <a:stretch/>
        </p:blipFill>
        <p:spPr>
          <a:xfrm>
            <a:off x="4464000" y="2565360"/>
            <a:ext cx="3168720" cy="3160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1619280" y="4145040"/>
            <a:ext cx="7608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58920" y="2637000"/>
            <a:ext cx="667368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р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900000" y="907920"/>
            <a:ext cx="75596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го не превращал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Гвидон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258920" y="3201840"/>
            <a:ext cx="66736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ук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255680" y="3929040"/>
            <a:ext cx="66740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мел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х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8" descr="Картинка 8 из 161239"/>
          <p:cNvPicPr/>
          <p:nvPr/>
        </p:nvPicPr>
        <p:blipFill>
          <a:blip r:embed="rId1"/>
          <a:srcRect l="0" t="0" r="3054" b="0"/>
          <a:stretch/>
        </p:blipFill>
        <p:spPr>
          <a:xfrm>
            <a:off x="4416480" y="2421000"/>
            <a:ext cx="331308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675324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не водятся в наших лесах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42920" y="2319480"/>
            <a:ext cx="7543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028880" y="4757760"/>
            <a:ext cx="7543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7" descr="http://900igr.net/datai/o-zhivotnykh/CHto-edjat-zveri.files/0012-021-CHto-edjat-zveri.png"/>
          <p:cNvPicPr/>
          <p:nvPr/>
        </p:nvPicPr>
        <p:blipFill>
          <a:blip r:embed="rId1"/>
          <a:stretch/>
        </p:blipFill>
        <p:spPr>
          <a:xfrm>
            <a:off x="5299200" y="1454040"/>
            <a:ext cx="1915920" cy="444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http://900igr.net/datai/o-zhivotnykh/CHto-edjat-zveri.files/0012-021-CHto-edjat-zveri.png"/>
          <p:cNvPicPr/>
          <p:nvPr/>
        </p:nvPicPr>
        <p:blipFill>
          <a:blip r:embed="rId2"/>
          <a:stretch/>
        </p:blipFill>
        <p:spPr>
          <a:xfrm>
            <a:off x="6443640" y="3670200"/>
            <a:ext cx="108108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46160" y="764640"/>
            <a:ext cx="717696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этих птиц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етать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у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422360" y="4460760"/>
            <a:ext cx="7543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иц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657680" y="2146320"/>
            <a:ext cx="3359160" cy="394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46160" y="765000"/>
            <a:ext cx="359712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льшая северная лесная певчая птица семейства вьюрковых с ярко-красным оперением головы и груди (у самцов). Уменьш.щуро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357800" y="1182600"/>
            <a:ext cx="4357440" cy="512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характеристику звук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74440" y="442440"/>
            <a:ext cx="817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ч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щ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ш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ж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64000" y="270828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340000" y="537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7380360" y="393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900000" y="393372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916360" y="206064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лькова С.П.</dc:creator>
  <dc:description/>
  <dc:language>en-US</dc:language>
  <cp:lastModifiedBy>user</cp:lastModifiedBy>
  <dcterms:modified xsi:type="dcterms:W3CDTF">2012-03-06T16:43:19Z</dcterms:modified>
  <cp:revision>55</cp:revision>
  <dc:subject>Гласные после шипящих</dc:subject>
  <dc:title>Русский язык</dc:title>
</cp:coreProperties>
</file>